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10.wmf" ContentType="image/x-wmf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jpeg" ContentType="image/jpeg"/>
  <Override PartName="/ppt/media/image43.jpeg" ContentType="image/jpeg"/>
  <Override PartName="/ppt/media/image54.png" ContentType="image/png"/>
  <Override PartName="/ppt/media/image41.jpeg" ContentType="image/jpeg"/>
  <Override PartName="/ppt/media/image66.png" ContentType="image/png"/>
  <Override PartName="/ppt/media/image38.jpeg" ContentType="image/jpeg"/>
  <Override PartName="/ppt/media/image72.png" ContentType="image/png"/>
  <Override PartName="/ppt/media/image37.jpeg" ContentType="image/jpeg"/>
  <Override PartName="/ppt/media/image57.png" ContentType="image/png"/>
  <Override PartName="/ppt/media/image36.jpeg" ContentType="image/jpeg"/>
  <Override PartName="/ppt/media/image47.png" ContentType="image/png"/>
  <Override PartName="/ppt/media/image35.jpeg" ContentType="image/jpeg"/>
  <Override PartName="/ppt/media/image33.jpeg" ContentType="image/jpeg"/>
  <Override PartName="/ppt/media/image30.jpeg" ContentType="image/jpeg"/>
  <Override PartName="/ppt/media/image83.wmf" ContentType="image/x-wmf"/>
  <Override PartName="/ppt/media/image24.jpeg" ContentType="image/jpeg"/>
  <Override PartName="/ppt/media/image59.png" ContentType="image/png"/>
  <Override PartName="/ppt/media/image60.png" ContentType="image/png"/>
  <Override PartName="/ppt/media/image28.jpeg" ContentType="image/jpeg"/>
  <Override PartName="/ppt/media/image62.png" ContentType="image/png"/>
  <Override PartName="/ppt/media/image6.jpeg" ContentType="image/jpeg"/>
  <Override PartName="/ppt/media/image71.png" ContentType="image/png"/>
  <Override PartName="/ppt/media/image12.png" ContentType="image/png"/>
  <Override PartName="/ppt/media/image49.png" ContentType="image/png"/>
  <Override PartName="/ppt/media/image32.jpeg" ContentType="image/jpeg"/>
  <Override PartName="/ppt/media/image26.jpeg" ContentType="image/jpeg"/>
  <Override PartName="/ppt/media/image79.png" ContentType="image/png"/>
  <Override PartName="/ppt/media/image21.jpeg" ContentType="image/jpeg"/>
  <Override PartName="/ppt/media/image65.png" ContentType="image/png"/>
  <Override PartName="/ppt/media/image29.jpeg" ContentType="image/jpeg"/>
  <Override PartName="/ppt/media/image61.png" ContentType="image/png"/>
  <Override PartName="/ppt/media/image86.png" ContentType="image/png"/>
  <Override PartName="/ppt/media/image31.jpeg" ContentType="image/jpeg"/>
  <Override PartName="/ppt/media/image74.png" ContentType="image/png"/>
  <Override PartName="/ppt/media/image16.png" ContentType="image/png"/>
  <Override PartName="/ppt/media/image81.png" ContentType="image/png"/>
  <Override PartName="/ppt/media/image67.png" ContentType="image/png"/>
  <Override PartName="/ppt/media/image78.png" ContentType="image/png"/>
  <Override PartName="/ppt/media/image69.jpeg" ContentType="image/jpeg"/>
  <Override PartName="/ppt/media/image9.wmf" ContentType="image/x-wmf"/>
  <Override PartName="/ppt/media/image77.png" ContentType="image/png"/>
  <Override PartName="/ppt/media/image76.png" ContentType="image/png"/>
  <Override PartName="/ppt/media/image64.png" ContentType="image/png"/>
  <Override PartName="/ppt/media/image73.png" ContentType="image/png"/>
  <Override PartName="/ppt/media/image70.png" ContentType="image/png"/>
  <Override PartName="/ppt/media/image68.png" ContentType="image/png"/>
  <Override PartName="/ppt/media/image63.png" ContentType="image/png"/>
  <Override PartName="/ppt/media/image17.png" ContentType="image/png"/>
  <Override PartName="/ppt/media/image39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25.jpeg" ContentType="image/jpeg"/>
  <Override PartName="/ppt/media/image19.jpeg" ContentType="image/jpeg"/>
  <Override PartName="/ppt/media/image18.png" ContentType="image/png"/>
  <Override PartName="/ppt/media/image42.jpeg" ContentType="image/jpeg"/>
  <Override PartName="/ppt/media/image11.png" ContentType="image/png"/>
  <Override PartName="/ppt/media/image48.png" ContentType="image/png"/>
  <Override PartName="/ppt/media/image52.png" ContentType="image/png"/>
  <Override PartName="/ppt/media/image82.wmf" ContentType="image/x-wmf"/>
  <Override PartName="/ppt/media/image5.wmf" ContentType="image/x-wmf"/>
  <Override PartName="/ppt/media/image27.jpeg" ContentType="image/jpeg"/>
  <Override PartName="/ppt/media/image23.jpeg" ContentType="image/jpeg"/>
  <Override PartName="/ppt/media/image8.png" ContentType="image/png"/>
  <Override PartName="/ppt/media/image85.png" ContentType="image/png"/>
  <Override PartName="/ppt/media/image1.png" ContentType="image/png"/>
  <Override PartName="/ppt/media/image13.png" ContentType="image/png"/>
  <Override PartName="/ppt/media/image22.jpeg" ContentType="image/jpeg"/>
  <Override PartName="/ppt/media/image75.png" ContentType="image/png"/>
  <Override PartName="/ppt/media/image84.png" ContentType="image/png"/>
  <Override PartName="/ppt/media/image7.png" ContentType="image/png"/>
  <Override PartName="/ppt/media/image34.jpeg" ContentType="image/jpeg"/>
  <Override PartName="/ppt/media/image2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667E-00C2-43A7-B4F5-866BB254E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phacts is an imi project with an mou with ehr4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D210-99F1-4C50-9C5F-8BCE9D6F5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pecting Data Provi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sy to expose data to openpha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se RDF with dataset descri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ntactic interoperability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commendations over mandates (we recommend certain ontologies but do not require th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ap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ppings are cru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ppings between terminologies and data and between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47EF-8A0D-43CC-B35D-311D683A7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d triples 479,440,4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triples are larger because of additional data from wikipathway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 GB on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12 GB 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GB RAM / billion tr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9160-765B-4F2A-A461-063CE19D8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4F1B-E797-4197-8DD4-FF3B27209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complex reasoning has not been essential – basic semweb reasoning goes along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E31E-E428-4FC8-A316-309AEE9F7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issue here is that the same compound in two different databases might have subtle differences (salt forms, stereo chemistry etc). Integration systems often apply a “one size fits all rule” which aligns some, but not all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1724-0D9C-4A00-BC91-6B52D1F3FF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 the shelf when 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ed data api = http://code.google.com/p/linked-data-api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an a competitive call for t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CA2B-5FE3-4270-8F8C-4983F4984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544E-E65D-45B2-A6A6-CF4998BB2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ig servers: 330 gigabytes of ram, flash drives – pro triple st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ommendation is easier but requires mor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st, other formats – tsv, j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943E-1AB3-4A6D-902E-9372EBC2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Very keen on further collabo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6F19-BEC6-4472-99AF-41866995E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) A platform for integrated pharmacology data based on open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) Easy to build multiple drug discovery applic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) Deals with both public domain and commercial data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) Example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68BA-03EB-4F8C-A6D3-09436ADC2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prioritized business questions by phar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p priority business question – 5 people 6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00B4-FEE4-42D1-B56F-5E2289412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FCCC-59C7-44EB-9CF7-D4A2DE74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59059-A1D6-4B4D-9E09-8B5766ED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9579-5024-4469-A7F6-0F76168C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18EE-8DCE-4531-9AE1-1CD90D1B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9797-8A3E-47B8-8526-3920C1B5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D6FC-1B94-45B0-9CD8-3321C345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1FDC-0A30-4448-9A02-70B27771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619C-9FCA-43E6-BEE8-0D956610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7D90-3DBE-4C99-88C8-280BC069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7C18-7B0A-4490-83FA-8D85C9D9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1846-BB48-40FB-8629-C54A21BF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12A5-ECB7-4777-8757-26377A89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C50C-3341-496F-9E0F-04CF6D11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69BB-D057-47CB-BD6C-240D7E92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C6C7-2AB8-4844-BDDF-7AEAF988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60B1-2699-410D-930B-8805EC9C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42D8-012F-4A10-935B-1CB30F1C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E805-C3A8-400A-B467-3C0118C6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B9D3-E0A3-4EB9-AE6D-C2B20850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0C71-99C1-49FF-8CC5-93D20D5D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F967-C6A1-4E1B-9D71-BEB81F8C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8323-EBEF-4BA9-A8F5-ED154CB1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457E-921C-402F-A400-248D0C6A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18DA-38BB-4C20-A5E3-F6B941F2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1434-B9B1-4DD5-A121-C97424D2A0FC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4668-8D34-47FB-8FE3-0614E208FB6B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008080" cy="164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0FA3-380A-48D4-A165-76F645B3DB20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156C-9FC7-4A8C-AE59-90F720EBFDA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5.wmf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5.wmf"/><Relationship Id="rId14" Type="http://schemas.openxmlformats.org/officeDocument/2006/relationships/image" Target="../media/image6.jpe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5.wmf"/><Relationship Id="rId20" Type="http://schemas.openxmlformats.org/officeDocument/2006/relationships/image" Target="../media/image6.jpe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wmf"/><Relationship Id="rId24" Type="http://schemas.openxmlformats.org/officeDocument/2006/relationships/image" Target="../media/image10.wmf"/><Relationship Id="rId25" Type="http://schemas.openxmlformats.org/officeDocument/2006/relationships/image" Target="../media/image5.wmf"/><Relationship Id="rId26" Type="http://schemas.openxmlformats.org/officeDocument/2006/relationships/image" Target="../media/image6.jpeg"/><Relationship Id="rId27" Type="http://schemas.openxmlformats.org/officeDocument/2006/relationships/image" Target="../media/image7.png"/><Relationship Id="rId28" Type="http://schemas.openxmlformats.org/officeDocument/2006/relationships/image" Target="../media/image8.png"/><Relationship Id="rId29" Type="http://schemas.openxmlformats.org/officeDocument/2006/relationships/image" Target="../media/image9.wmf"/><Relationship Id="rId30" Type="http://schemas.openxmlformats.org/officeDocument/2006/relationships/image" Target="../media/image10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enphacts.org/" TargetMode="External"/><Relationship Id="rId2" Type="http://schemas.openxmlformats.org/officeDocument/2006/relationships/hyperlink" Target="mailto:pmu@openphacts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31.jpe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image" Target="../media/image34.jpeg"/><Relationship Id="rId18" Type="http://schemas.openxmlformats.org/officeDocument/2006/relationships/image" Target="../media/image35.jpe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jpeg"/><Relationship Id="rId23" Type="http://schemas.openxmlformats.org/officeDocument/2006/relationships/image" Target="../media/image40.jpeg"/><Relationship Id="rId24" Type="http://schemas.openxmlformats.org/officeDocument/2006/relationships/image" Target="../media/image41.jpeg"/><Relationship Id="rId25" Type="http://schemas.openxmlformats.org/officeDocument/2006/relationships/image" Target="../media/image42.jpeg"/><Relationship Id="rId26" Type="http://schemas.openxmlformats.org/officeDocument/2006/relationships/image" Target="../media/image43.jpe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9.jpeg"/><Relationship Id="rId25" Type="http://schemas.openxmlformats.org/officeDocument/2006/relationships/image" Target="../media/image70.png"/><Relationship Id="rId26" Type="http://schemas.openxmlformats.org/officeDocument/2006/relationships/image" Target="../media/image71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73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Paul Groth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http://www.few.vu.nl/~pgroth/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@pgroth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98989"/>
                </a:solidFill>
                <a:latin typeface="Calibri"/>
              </a:rPr>
              <a:t>VU University Amsterdam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6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5E0A-9C1F-4DB6-B1CB-C13AE970389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Seite1"/>
          <p:cNvPicPr/>
          <p:nvPr/>
        </p:nvPicPr>
        <p:blipFill>
          <a:blip r:embed="rId1"/>
          <a:srcRect l="0" t="35950" r="41994" b="44008"/>
          <a:stretch/>
        </p:blipFill>
        <p:spPr>
          <a:xfrm>
            <a:off x="1835280" y="2133720"/>
            <a:ext cx="530532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1332-E337-4140-8AE8-A2768423BA9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oscar-screenshot.png"/>
          <p:cNvPicPr/>
          <p:nvPr/>
        </p:nvPicPr>
        <p:blipFill>
          <a:blip r:embed="rId1"/>
          <a:stretch/>
        </p:blipFill>
        <p:spPr>
          <a:xfrm>
            <a:off x="2340000" y="0"/>
            <a:ext cx="6192720" cy="64962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8"/>
          <p:cNvSpPr/>
          <p:nvPr/>
        </p:nvSpPr>
        <p:spPr>
          <a:xfrm>
            <a:off x="476640" y="19044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op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approach</a:t>
            </a:r>
            <a:br>
              <a:rPr sz="4400"/>
            </a:b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Principles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Respect data provider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Make it easy for application developer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ADEB-0CD3-49C4-8238-A84A11C9464D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approach</a:t>
            </a:r>
            <a:br>
              <a:rPr sz="4400"/>
            </a:b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1747-DBA5-4B0A-9002-9DC8B2A32E34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417600" y="1125360"/>
            <a:ext cx="8451720" cy="4515120"/>
          </a:xfrm>
          <a:prstGeom prst="rect">
            <a:avLst/>
          </a:prstGeom>
          <a:ln w="0">
            <a:noFill/>
          </a:ln>
        </p:spPr>
      </p:pic>
      <p:sp>
        <p:nvSpPr>
          <p:cNvPr id="331" name="Up Arrow 6"/>
          <p:cNvSpPr/>
          <p:nvPr/>
        </p:nvSpPr>
        <p:spPr>
          <a:xfrm>
            <a:off x="826920" y="3068640"/>
            <a:ext cx="576360" cy="79200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Resources – Data set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8132-391A-4210-820C-5123BAF3591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8"/>
          <p:cNvGraphicFramePr/>
          <p:nvPr/>
        </p:nvGraphicFramePr>
        <p:xfrm>
          <a:off x="826920" y="1916280"/>
          <a:ext cx="7515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7515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2"/>
          <p:cNvSpPr/>
          <p:nvPr/>
        </p:nvSpPr>
        <p:spPr>
          <a:xfrm>
            <a:off x="-252360" y="765000"/>
            <a:ext cx="79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6352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14,535,923 tr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16352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Resources - Mapping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7593-4227-41B5-ABE4-3BB2698BEEA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rcRect l="0" t="0" r="21360" b="0"/>
          <a:stretch/>
        </p:blipFill>
        <p:spPr>
          <a:xfrm>
            <a:off x="2556000" y="981000"/>
            <a:ext cx="2952720" cy="5138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2"/>
          <a:srcRect l="0" t="0" r="19458" b="0"/>
          <a:stretch/>
        </p:blipFill>
        <p:spPr>
          <a:xfrm>
            <a:off x="5867280" y="981000"/>
            <a:ext cx="2665440" cy="4896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7"/>
          <p:cNvSpPr/>
          <p:nvPr/>
        </p:nvSpPr>
        <p:spPr>
          <a:xfrm>
            <a:off x="224280" y="2276640"/>
            <a:ext cx="22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 Mill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pp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resources - Summary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ypes of semantic resourc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RDF Dataset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Mapping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Terminologie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Mesh, UMLS, NCIM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Hierarchies are essential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E.G. Target Ontology, Gene Ontology, Enzyme classification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Class reasoning is essential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6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8CC0-0B6A-40FF-AB34-A66FEE7E524B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604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Methodology for semantic integration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12682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Define use case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Data Providers – create RDF with VoID header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Create mapping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between dataset and known datasets (instance level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index for text to url conversion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Ingest RDF into data cache (i.e. triple store)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Define access paths to core concepts in data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Extend or create sparql queries for API call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Publish api call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CCDB-5B0F-41FA-8D9D-2076B7EDD3A3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4319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a54"/>
                </a:solidFill>
                <a:latin typeface="Calibri"/>
              </a:rPr>
              <a:t>Its easy to integrate, but difficult to integrate well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507960" y="1324080"/>
            <a:ext cx="8115480" cy="3733560"/>
            <a:chOff x="507960" y="1324080"/>
            <a:chExt cx="8115480" cy="3733560"/>
          </a:xfrm>
        </p:grpSpPr>
        <p:pic>
          <p:nvPicPr>
            <p:cNvPr id="354" name="Picture 4" descr=""/>
            <p:cNvPicPr/>
            <p:nvPr/>
          </p:nvPicPr>
          <p:blipFill>
            <a:blip r:embed="rId1"/>
            <a:stretch/>
          </p:blipFill>
          <p:spPr>
            <a:xfrm>
              <a:off x="507960" y="1324080"/>
              <a:ext cx="811548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5"/>
            <p:cNvSpPr/>
            <p:nvPr/>
          </p:nvSpPr>
          <p:spPr>
            <a:xfrm>
              <a:off x="612720" y="2462040"/>
              <a:ext cx="3122640" cy="46188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Adoption of standar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Basic Semweb standard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SPARQL 1.1, RDF(S), SKO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Dataset description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Vocabulary of Interlinked Datasets (VoID)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VoID linkset description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QUDT Quantities, Units, Dimensions and Type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Provenance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W3C PROV, PAV, Nanopublication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BioPortal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7C7C-9CCE-48B5-A82D-8ECEB46D60A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Tooling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Infrastructure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Linked Data API 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Bridge DB - identifier to identifier mapping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Concept Wiki - text to identifier mapping and curation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Chemspider: chemistry registration and service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Triple Store: Virtuoso Professional addition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Data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VoID descriptions and http and ftp site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Github for data conversion script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Recommend turtle as RDF syntax 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friendly for scripting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2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4EA7-F427-4246-867B-62E9E94070F6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80880" y="8366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8a54"/>
                </a:solidFill>
                <a:latin typeface="Calibri"/>
              </a:rPr>
              <a:t>We are all doing this many times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0"/>
          <p:cNvGrpSpPr/>
          <p:nvPr/>
        </p:nvGrpSpPr>
        <p:grpSpPr>
          <a:xfrm>
            <a:off x="122400" y="836640"/>
            <a:ext cx="5386320" cy="2924280"/>
            <a:chOff x="122400" y="836640"/>
            <a:chExt cx="5386320" cy="2924280"/>
          </a:xfrm>
        </p:grpSpPr>
        <p:sp>
          <p:nvSpPr>
            <p:cNvPr id="101" name="Round Diagonal Corner Rectangle 143"/>
            <p:cNvSpPr/>
            <p:nvPr/>
          </p:nvSpPr>
          <p:spPr>
            <a:xfrm>
              <a:off x="122400" y="1407960"/>
              <a:ext cx="5386320" cy="2352960"/>
            </a:xfrm>
            <a:custGeom>
              <a:avLst/>
              <a:gdLst/>
              <a:ahLst/>
              <a:rect l="l" t="t" r="r" b="b"/>
              <a:pathLst>
                <a:path w="5386894" h="2352734">
                  <a:moveTo>
                    <a:pt x="392130" y="0"/>
                  </a:moveTo>
                  <a:lnTo>
                    <a:pt x="5386894" y="0"/>
                  </a:lnTo>
                  <a:lnTo>
                    <a:pt x="5386894" y="0"/>
                  </a:lnTo>
                  <a:lnTo>
                    <a:pt x="5386894" y="1960604"/>
                  </a:lnTo>
                  <a:cubicBezTo>
                    <a:pt x="5386894" y="2177171"/>
                    <a:pt x="5211331" y="2352734"/>
                    <a:pt x="4994764" y="2352734"/>
                  </a:cubicBezTo>
                  <a:lnTo>
                    <a:pt x="0" y="2352734"/>
                  </a:lnTo>
                  <a:lnTo>
                    <a:pt x="0" y="2352734"/>
                  </a:lnTo>
                  <a:lnTo>
                    <a:pt x="0" y="392130"/>
                  </a:lnTo>
                  <a:cubicBezTo>
                    <a:pt x="0" y="175563"/>
                    <a:pt x="175563" y="0"/>
                    <a:pt x="3921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a7ccb"/>
                </a:gs>
                <a:gs pos="100000">
                  <a:srgbClr val="2c5d98"/>
                </a:gs>
              </a:gsLst>
              <a:lin ang="5400000"/>
            </a:gra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42"/>
            <p:cNvGrpSpPr/>
            <p:nvPr/>
          </p:nvGrpSpPr>
          <p:grpSpPr>
            <a:xfrm>
              <a:off x="348840" y="836640"/>
              <a:ext cx="5029200" cy="2908800"/>
              <a:chOff x="348840" y="836640"/>
              <a:chExt cx="5029200" cy="2908800"/>
            </a:xfrm>
          </p:grpSpPr>
          <p:grpSp>
            <p:nvGrpSpPr>
              <p:cNvPr id="103" name="Group 118"/>
              <p:cNvGrpSpPr/>
              <p:nvPr/>
            </p:nvGrpSpPr>
            <p:grpSpPr>
              <a:xfrm>
                <a:off x="348840" y="836640"/>
                <a:ext cx="5029200" cy="2908800"/>
                <a:chOff x="348840" y="836640"/>
                <a:chExt cx="5029200" cy="2908800"/>
              </a:xfrm>
            </p:grpSpPr>
            <p:grpSp>
              <p:nvGrpSpPr>
                <p:cNvPr id="104" name="Group 18"/>
                <p:cNvGrpSpPr/>
                <p:nvPr/>
              </p:nvGrpSpPr>
              <p:grpSpPr>
                <a:xfrm>
                  <a:off x="1709280" y="836640"/>
                  <a:ext cx="2947320" cy="1214640"/>
                  <a:chOff x="1709280" y="836640"/>
                  <a:chExt cx="2947320" cy="1214640"/>
                </a:xfrm>
              </p:grpSpPr>
              <p:sp>
                <p:nvSpPr>
                  <p:cNvPr id="105" name="Line 11"/>
                  <p:cNvSpPr/>
                  <p:nvPr/>
                </p:nvSpPr>
                <p:spPr>
                  <a:xfrm>
                    <a:off x="1709280" y="2051280"/>
                    <a:ext cx="517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13"/>
                  <p:cNvSpPr/>
                  <p:nvPr/>
                </p:nvSpPr>
                <p:spPr>
                  <a:xfrm>
                    <a:off x="4656600" y="836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" name="Picture 1" descr="C:\Documents and Settings\williams_bi\Local Settings\Temporary Internet Files\Content.IE5\NCB4CN79\MC900311860[1].wm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94280" y="1626840"/>
                  <a:ext cx="1144080" cy="857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3" descr="C:\Documents and Settings\williams_bi\Local Settings\Temporary Internet Files\Content.IE5\O5HQD79B\MP900402692[1].jp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307240" y="1681560"/>
                  <a:ext cx="1256040" cy="81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5" descr="C:\Documents and Settings\williams_bi\Local Settings\Temporary Internet Files\Content.IE5\PJ71VBD2\MC900431499[1]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47920" y="2885760"/>
                  <a:ext cx="1153800" cy="82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6" descr="C:\Documents and Settings\williams_bi\Local Settings\Temporary Internet Files\Content.IE5\KD2YG92R\MC900432644[1]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296240" y="1613160"/>
                  <a:ext cx="1081800" cy="87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7" descr="C:\Documents and Settings\williams_bi\Local Settings\Temporary Internet Files\Content.IE5\1AMI4QH7\MC900059570[1].wmf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26600" y="2885760"/>
                  <a:ext cx="1114200" cy="79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Line 12"/>
                <p:cNvSpPr/>
                <p:nvPr/>
              </p:nvSpPr>
              <p:spPr>
                <a:xfrm>
                  <a:off x="3598920" y="2050920"/>
                  <a:ext cx="549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 flipH="1">
                  <a:off x="3420000" y="3273480"/>
                  <a:ext cx="549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2"/>
                <p:cNvSpPr/>
                <p:nvPr/>
              </p:nvSpPr>
              <p:spPr>
                <a:xfrm flipH="1">
                  <a:off x="1523880" y="3273480"/>
                  <a:ext cx="549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5" name="Picture 9" descr="C:\Documents and Settings\williams_bi\Local Settings\Temporary Internet Files\Content.IE5\J3TDAGIZ\MC900059634[1].wmf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8840" y="2885760"/>
                  <a:ext cx="1063440" cy="85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6" name="Line 13"/>
              <p:cNvSpPr/>
              <p:nvPr/>
            </p:nvSpPr>
            <p:spPr>
              <a:xfrm>
                <a:off x="4809960" y="2423160"/>
                <a:ext cx="0" cy="46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Box 134"/>
          <p:cNvSpPr/>
          <p:nvPr/>
        </p:nvSpPr>
        <p:spPr>
          <a:xfrm>
            <a:off x="4739040" y="10382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48a54"/>
                </a:solidFill>
                <a:latin typeface="Arial"/>
              </a:rPr>
              <a:t>Pf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12"/>
          <p:cNvGrpSpPr/>
          <p:nvPr/>
        </p:nvGrpSpPr>
        <p:grpSpPr>
          <a:xfrm>
            <a:off x="646200" y="1174680"/>
            <a:ext cx="5386320" cy="2924280"/>
            <a:chOff x="646200" y="1174680"/>
            <a:chExt cx="5386320" cy="2924280"/>
          </a:xfrm>
        </p:grpSpPr>
        <p:grpSp>
          <p:nvGrpSpPr>
            <p:cNvPr id="119" name="Group 135"/>
            <p:cNvGrpSpPr/>
            <p:nvPr/>
          </p:nvGrpSpPr>
          <p:grpSpPr>
            <a:xfrm>
              <a:off x="646200" y="1174680"/>
              <a:ext cx="5386320" cy="2924280"/>
              <a:chOff x="646200" y="1174680"/>
              <a:chExt cx="5386320" cy="2924280"/>
            </a:xfrm>
          </p:grpSpPr>
          <p:sp>
            <p:nvSpPr>
              <p:cNvPr id="120" name="Round Diagonal Corner Rectangle 136"/>
              <p:cNvSpPr/>
              <p:nvPr/>
            </p:nvSpPr>
            <p:spPr>
              <a:xfrm>
                <a:off x="646200" y="1746000"/>
                <a:ext cx="5386320" cy="2352960"/>
              </a:xfrm>
              <a:custGeom>
                <a:avLst/>
                <a:gdLst/>
                <a:ahLst/>
                <a:rect l="l" t="t" r="r" b="b"/>
                <a:pathLst>
                  <a:path w="5386894" h="2352734">
                    <a:moveTo>
                      <a:pt x="392130" y="0"/>
                    </a:moveTo>
                    <a:lnTo>
                      <a:pt x="5386894" y="0"/>
                    </a:lnTo>
                    <a:lnTo>
                      <a:pt x="5386894" y="0"/>
                    </a:lnTo>
                    <a:lnTo>
                      <a:pt x="5386894" y="1960604"/>
                    </a:lnTo>
                    <a:cubicBezTo>
                      <a:pt x="5386894" y="2177171"/>
                      <a:pt x="5211331" y="2352734"/>
                      <a:pt x="4994764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Group 142"/>
              <p:cNvGrpSpPr/>
              <p:nvPr/>
            </p:nvGrpSpPr>
            <p:grpSpPr>
              <a:xfrm>
                <a:off x="872640" y="1174680"/>
                <a:ext cx="5029200" cy="2908800"/>
                <a:chOff x="872640" y="1174680"/>
                <a:chExt cx="5029200" cy="2908800"/>
              </a:xfrm>
            </p:grpSpPr>
            <p:grpSp>
              <p:nvGrpSpPr>
                <p:cNvPr id="122" name="Group 118"/>
                <p:cNvGrpSpPr/>
                <p:nvPr/>
              </p:nvGrpSpPr>
              <p:grpSpPr>
                <a:xfrm>
                  <a:off x="872640" y="1174680"/>
                  <a:ext cx="5029200" cy="2908800"/>
                  <a:chOff x="872640" y="1174680"/>
                  <a:chExt cx="5029200" cy="2908800"/>
                </a:xfrm>
              </p:grpSpPr>
              <p:grpSp>
                <p:nvGrpSpPr>
                  <p:cNvPr id="123" name="Group 18"/>
                  <p:cNvGrpSpPr/>
                  <p:nvPr/>
                </p:nvGrpSpPr>
                <p:grpSpPr>
                  <a:xfrm>
                    <a:off x="2233080" y="1174680"/>
                    <a:ext cx="2947320" cy="1402200"/>
                    <a:chOff x="2233080" y="1174680"/>
                    <a:chExt cx="2947320" cy="1402200"/>
                  </a:xfrm>
                </p:grpSpPr>
                <p:sp>
                  <p:nvSpPr>
                    <p:cNvPr id="124" name="Line 11"/>
                    <p:cNvSpPr/>
                    <p:nvPr/>
                  </p:nvSpPr>
                  <p:spPr>
                    <a:xfrm>
                      <a:off x="2233080" y="2576880"/>
                      <a:ext cx="517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Line 13"/>
                    <p:cNvSpPr/>
                    <p:nvPr/>
                  </p:nvSpPr>
                  <p:spPr>
                    <a:xfrm>
                      <a:off x="5180400" y="117468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26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8080" y="1964880"/>
                    <a:ext cx="114408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7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31040" y="2019600"/>
                    <a:ext cx="125604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8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71720" y="3223800"/>
                    <a:ext cx="115380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9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20040" y="1951200"/>
                    <a:ext cx="10818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0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50400" y="3223800"/>
                    <a:ext cx="111420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1" name="Line 12"/>
                  <p:cNvSpPr/>
                  <p:nvPr/>
                </p:nvSpPr>
                <p:spPr>
                  <a:xfrm>
                    <a:off x="4122720" y="23893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Line 12"/>
                  <p:cNvSpPr/>
                  <p:nvPr/>
                </p:nvSpPr>
                <p:spPr>
                  <a:xfrm flipH="1">
                    <a:off x="3944520" y="361188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12"/>
                  <p:cNvSpPr/>
                  <p:nvPr/>
                </p:nvSpPr>
                <p:spPr>
                  <a:xfrm flipH="1">
                    <a:off x="2047320" y="361188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34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72640" y="3223800"/>
                    <a:ext cx="106344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35" name="Line 13"/>
                <p:cNvSpPr/>
                <p:nvPr/>
              </p:nvSpPr>
              <p:spPr>
                <a:xfrm>
                  <a:off x="5334120" y="2760840"/>
                  <a:ext cx="0" cy="46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TextBox 157"/>
            <p:cNvSpPr/>
            <p:nvPr/>
          </p:nvSpPr>
          <p:spPr>
            <a:xfrm>
              <a:off x="5556240" y="13762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13"/>
          <p:cNvGrpSpPr/>
          <p:nvPr/>
        </p:nvGrpSpPr>
        <p:grpSpPr>
          <a:xfrm>
            <a:off x="1251000" y="1514520"/>
            <a:ext cx="5576040" cy="2924280"/>
            <a:chOff x="1251000" y="1514520"/>
            <a:chExt cx="5576040" cy="2924280"/>
          </a:xfrm>
        </p:grpSpPr>
        <p:grpSp>
          <p:nvGrpSpPr>
            <p:cNvPr id="138" name="Group 158"/>
            <p:cNvGrpSpPr/>
            <p:nvPr/>
          </p:nvGrpSpPr>
          <p:grpSpPr>
            <a:xfrm>
              <a:off x="1251000" y="1514520"/>
              <a:ext cx="5387760" cy="2924280"/>
              <a:chOff x="1251000" y="1514520"/>
              <a:chExt cx="5387760" cy="2924280"/>
            </a:xfrm>
          </p:grpSpPr>
          <p:sp>
            <p:nvSpPr>
              <p:cNvPr id="139" name="Round Diagonal Corner Rectangle 159"/>
              <p:cNvSpPr/>
              <p:nvPr/>
            </p:nvSpPr>
            <p:spPr>
              <a:xfrm>
                <a:off x="1251000" y="2085840"/>
                <a:ext cx="5387760" cy="2352960"/>
              </a:xfrm>
              <a:custGeom>
                <a:avLst/>
                <a:gdLst/>
                <a:ahLst/>
                <a:rect l="l" t="t" r="r" b="b"/>
                <a:pathLst>
                  <a:path w="5387195" h="2352734">
                    <a:moveTo>
                      <a:pt x="392130" y="0"/>
                    </a:moveTo>
                    <a:lnTo>
                      <a:pt x="5387195" y="0"/>
                    </a:lnTo>
                    <a:lnTo>
                      <a:pt x="5387195" y="0"/>
                    </a:lnTo>
                    <a:lnTo>
                      <a:pt x="5387195" y="1960604"/>
                    </a:lnTo>
                    <a:cubicBezTo>
                      <a:pt x="5387195" y="2177171"/>
                      <a:pt x="5211632" y="2352734"/>
                      <a:pt x="4995065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142"/>
              <p:cNvGrpSpPr/>
              <p:nvPr/>
            </p:nvGrpSpPr>
            <p:grpSpPr>
              <a:xfrm>
                <a:off x="1477440" y="1514520"/>
                <a:ext cx="5030280" cy="2908800"/>
                <a:chOff x="1477440" y="1514520"/>
                <a:chExt cx="5030280" cy="2908800"/>
              </a:xfrm>
            </p:grpSpPr>
            <p:grpSp>
              <p:nvGrpSpPr>
                <p:cNvPr id="141" name="Group 118"/>
                <p:cNvGrpSpPr/>
                <p:nvPr/>
              </p:nvGrpSpPr>
              <p:grpSpPr>
                <a:xfrm>
                  <a:off x="1477440" y="1514520"/>
                  <a:ext cx="5030280" cy="2908800"/>
                  <a:chOff x="1477440" y="1514520"/>
                  <a:chExt cx="5030280" cy="2908800"/>
                </a:xfrm>
              </p:grpSpPr>
              <p:grpSp>
                <p:nvGrpSpPr>
                  <p:cNvPr id="142" name="Group 18"/>
                  <p:cNvGrpSpPr/>
                  <p:nvPr/>
                </p:nvGrpSpPr>
                <p:grpSpPr>
                  <a:xfrm>
                    <a:off x="2838240" y="1514520"/>
                    <a:ext cx="2948040" cy="1402200"/>
                    <a:chOff x="2838240" y="1514520"/>
                    <a:chExt cx="2948040" cy="1402200"/>
                  </a:xfrm>
                </p:grpSpPr>
                <p:sp>
                  <p:nvSpPr>
                    <p:cNvPr id="143" name="Line 11"/>
                    <p:cNvSpPr/>
                    <p:nvPr/>
                  </p:nvSpPr>
                  <p:spPr>
                    <a:xfrm>
                      <a:off x="2838240" y="2916720"/>
                      <a:ext cx="516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13"/>
                    <p:cNvSpPr/>
                    <p:nvPr/>
                  </p:nvSpPr>
                  <p:spPr>
                    <a:xfrm>
                      <a:off x="5786280" y="151452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45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22880" y="2304720"/>
                    <a:ext cx="114444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36560" y="2359440"/>
                    <a:ext cx="125640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7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77240" y="3563640"/>
                    <a:ext cx="11541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8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25560" y="2291040"/>
                    <a:ext cx="108216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9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355560" y="3563640"/>
                    <a:ext cx="111456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" name="Line 12"/>
                  <p:cNvSpPr/>
                  <p:nvPr/>
                </p:nvSpPr>
                <p:spPr>
                  <a:xfrm>
                    <a:off x="4728960" y="272916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12"/>
                  <p:cNvSpPr/>
                  <p:nvPr/>
                </p:nvSpPr>
                <p:spPr>
                  <a:xfrm flipH="1">
                    <a:off x="4549320" y="39517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12"/>
                  <p:cNvSpPr/>
                  <p:nvPr/>
                </p:nvSpPr>
                <p:spPr>
                  <a:xfrm flipH="1">
                    <a:off x="2653560" y="39517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53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77440" y="3563640"/>
                    <a:ext cx="106380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54" name="Line 13"/>
                <p:cNvSpPr/>
                <p:nvPr/>
              </p:nvSpPr>
              <p:spPr>
                <a:xfrm>
                  <a:off x="5940360" y="3100680"/>
                  <a:ext cx="0" cy="46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TextBox 175"/>
            <p:cNvSpPr/>
            <p:nvPr/>
          </p:nvSpPr>
          <p:spPr>
            <a:xfrm>
              <a:off x="6163200" y="17161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G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14"/>
          <p:cNvGrpSpPr/>
          <p:nvPr/>
        </p:nvGrpSpPr>
        <p:grpSpPr>
          <a:xfrm>
            <a:off x="1835280" y="1909800"/>
            <a:ext cx="5716080" cy="2924280"/>
            <a:chOff x="1835280" y="1909800"/>
            <a:chExt cx="5716080" cy="2924280"/>
          </a:xfrm>
        </p:grpSpPr>
        <p:grpSp>
          <p:nvGrpSpPr>
            <p:cNvPr id="157" name="Group 176"/>
            <p:cNvGrpSpPr/>
            <p:nvPr/>
          </p:nvGrpSpPr>
          <p:grpSpPr>
            <a:xfrm>
              <a:off x="1835280" y="1909800"/>
              <a:ext cx="5387760" cy="2924280"/>
              <a:chOff x="1835280" y="1909800"/>
              <a:chExt cx="5387760" cy="2924280"/>
            </a:xfrm>
          </p:grpSpPr>
          <p:sp>
            <p:nvSpPr>
              <p:cNvPr id="158" name="Round Diagonal Corner Rectangle 177"/>
              <p:cNvSpPr/>
              <p:nvPr/>
            </p:nvSpPr>
            <p:spPr>
              <a:xfrm>
                <a:off x="1835280" y="2481120"/>
                <a:ext cx="5387760" cy="2352960"/>
              </a:xfrm>
              <a:custGeom>
                <a:avLst/>
                <a:gdLst/>
                <a:ahLst/>
                <a:rect l="l" t="t" r="r" b="b"/>
                <a:pathLst>
                  <a:path w="5387004" h="2352734">
                    <a:moveTo>
                      <a:pt x="392130" y="0"/>
                    </a:moveTo>
                    <a:lnTo>
                      <a:pt x="5387004" y="0"/>
                    </a:lnTo>
                    <a:lnTo>
                      <a:pt x="5387004" y="0"/>
                    </a:lnTo>
                    <a:lnTo>
                      <a:pt x="5387004" y="1960604"/>
                    </a:lnTo>
                    <a:cubicBezTo>
                      <a:pt x="5387004" y="2177171"/>
                      <a:pt x="5211441" y="2352734"/>
                      <a:pt x="4994874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142"/>
              <p:cNvGrpSpPr/>
              <p:nvPr/>
            </p:nvGrpSpPr>
            <p:grpSpPr>
              <a:xfrm>
                <a:off x="2061720" y="1909800"/>
                <a:ext cx="5030640" cy="2908800"/>
                <a:chOff x="2061720" y="1909800"/>
                <a:chExt cx="5030640" cy="2908800"/>
              </a:xfrm>
            </p:grpSpPr>
            <p:grpSp>
              <p:nvGrpSpPr>
                <p:cNvPr id="160" name="Group 118"/>
                <p:cNvGrpSpPr/>
                <p:nvPr/>
              </p:nvGrpSpPr>
              <p:grpSpPr>
                <a:xfrm>
                  <a:off x="2061720" y="1909800"/>
                  <a:ext cx="5030640" cy="2908800"/>
                  <a:chOff x="2061720" y="1909800"/>
                  <a:chExt cx="5030640" cy="2908800"/>
                </a:xfrm>
              </p:grpSpPr>
              <p:grpSp>
                <p:nvGrpSpPr>
                  <p:cNvPr id="161" name="Group 18"/>
                  <p:cNvGrpSpPr/>
                  <p:nvPr/>
                </p:nvGrpSpPr>
                <p:grpSpPr>
                  <a:xfrm>
                    <a:off x="3422520" y="1909800"/>
                    <a:ext cx="2948400" cy="1402200"/>
                    <a:chOff x="3422520" y="1909800"/>
                    <a:chExt cx="2948400" cy="1402200"/>
                  </a:xfrm>
                </p:grpSpPr>
                <p:sp>
                  <p:nvSpPr>
                    <p:cNvPr id="162" name="Line 11"/>
                    <p:cNvSpPr/>
                    <p:nvPr/>
                  </p:nvSpPr>
                  <p:spPr>
                    <a:xfrm>
                      <a:off x="3422520" y="3312000"/>
                      <a:ext cx="518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13"/>
                    <p:cNvSpPr/>
                    <p:nvPr/>
                  </p:nvSpPr>
                  <p:spPr>
                    <a:xfrm>
                      <a:off x="6370920" y="190980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64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207160" y="2700000"/>
                    <a:ext cx="114444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5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20840" y="2754720"/>
                    <a:ext cx="125640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861880" y="3958920"/>
                    <a:ext cx="11541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10200" y="2686320"/>
                    <a:ext cx="108216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39840" y="3958920"/>
                    <a:ext cx="111456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" name="Line 12"/>
                  <p:cNvSpPr/>
                  <p:nvPr/>
                </p:nvSpPr>
                <p:spPr>
                  <a:xfrm>
                    <a:off x="5312520" y="312408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2"/>
                  <p:cNvSpPr/>
                  <p:nvPr/>
                </p:nvSpPr>
                <p:spPr>
                  <a:xfrm flipH="1">
                    <a:off x="5133960" y="434664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2"/>
                  <p:cNvSpPr/>
                  <p:nvPr/>
                </p:nvSpPr>
                <p:spPr>
                  <a:xfrm flipH="1">
                    <a:off x="3237120" y="434664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72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61720" y="3958920"/>
                    <a:ext cx="106380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73" name="Line 13"/>
                <p:cNvSpPr/>
                <p:nvPr/>
              </p:nvSpPr>
              <p:spPr>
                <a:xfrm>
                  <a:off x="6524280" y="3496320"/>
                  <a:ext cx="0" cy="46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4" name="TextBox 193"/>
            <p:cNvSpPr/>
            <p:nvPr/>
          </p:nvSpPr>
          <p:spPr>
            <a:xfrm>
              <a:off x="6748920" y="21114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Mer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15"/>
          <p:cNvGrpSpPr/>
          <p:nvPr/>
        </p:nvGrpSpPr>
        <p:grpSpPr>
          <a:xfrm>
            <a:off x="3238560" y="2976480"/>
            <a:ext cx="5386320" cy="2924280"/>
            <a:chOff x="3238560" y="2976480"/>
            <a:chExt cx="5386320" cy="2924280"/>
          </a:xfrm>
        </p:grpSpPr>
        <p:grpSp>
          <p:nvGrpSpPr>
            <p:cNvPr id="176" name="Group 194"/>
            <p:cNvGrpSpPr/>
            <p:nvPr/>
          </p:nvGrpSpPr>
          <p:grpSpPr>
            <a:xfrm>
              <a:off x="3238560" y="2976480"/>
              <a:ext cx="5386320" cy="2924280"/>
              <a:chOff x="3238560" y="2976480"/>
              <a:chExt cx="5386320" cy="2924280"/>
            </a:xfrm>
          </p:grpSpPr>
          <p:sp>
            <p:nvSpPr>
              <p:cNvPr id="177" name="Round Diagonal Corner Rectangle 195"/>
              <p:cNvSpPr/>
              <p:nvPr/>
            </p:nvSpPr>
            <p:spPr>
              <a:xfrm>
                <a:off x="3238560" y="3547800"/>
                <a:ext cx="5386320" cy="2352960"/>
              </a:xfrm>
              <a:custGeom>
                <a:avLst/>
                <a:gdLst/>
                <a:ahLst/>
                <a:rect l="l" t="t" r="r" b="b"/>
                <a:pathLst>
                  <a:path w="5386894" h="2352734">
                    <a:moveTo>
                      <a:pt x="392130" y="0"/>
                    </a:moveTo>
                    <a:lnTo>
                      <a:pt x="5386894" y="0"/>
                    </a:lnTo>
                    <a:lnTo>
                      <a:pt x="5386894" y="0"/>
                    </a:lnTo>
                    <a:lnTo>
                      <a:pt x="5386894" y="1960604"/>
                    </a:lnTo>
                    <a:cubicBezTo>
                      <a:pt x="5386894" y="2177171"/>
                      <a:pt x="5211331" y="2352734"/>
                      <a:pt x="4994764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Group 142"/>
              <p:cNvGrpSpPr/>
              <p:nvPr/>
            </p:nvGrpSpPr>
            <p:grpSpPr>
              <a:xfrm>
                <a:off x="3465000" y="2976480"/>
                <a:ext cx="5029200" cy="2908800"/>
                <a:chOff x="3465000" y="2976480"/>
                <a:chExt cx="5029200" cy="2908800"/>
              </a:xfrm>
            </p:grpSpPr>
            <p:grpSp>
              <p:nvGrpSpPr>
                <p:cNvPr id="179" name="Group 118"/>
                <p:cNvGrpSpPr/>
                <p:nvPr/>
              </p:nvGrpSpPr>
              <p:grpSpPr>
                <a:xfrm>
                  <a:off x="3465000" y="2976480"/>
                  <a:ext cx="5029200" cy="2908800"/>
                  <a:chOff x="3465000" y="2976480"/>
                  <a:chExt cx="5029200" cy="2908800"/>
                </a:xfrm>
              </p:grpSpPr>
              <p:grpSp>
                <p:nvGrpSpPr>
                  <p:cNvPr id="180" name="Group 18"/>
                  <p:cNvGrpSpPr/>
                  <p:nvPr/>
                </p:nvGrpSpPr>
                <p:grpSpPr>
                  <a:xfrm>
                    <a:off x="4825440" y="2976480"/>
                    <a:ext cx="2947320" cy="1402200"/>
                    <a:chOff x="4825440" y="2976480"/>
                    <a:chExt cx="2947320" cy="1402200"/>
                  </a:xfrm>
                </p:grpSpPr>
                <p:sp>
                  <p:nvSpPr>
                    <p:cNvPr id="181" name="Line 11"/>
                    <p:cNvSpPr/>
                    <p:nvPr/>
                  </p:nvSpPr>
                  <p:spPr>
                    <a:xfrm>
                      <a:off x="4825440" y="4378680"/>
                      <a:ext cx="517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13"/>
                    <p:cNvSpPr/>
                    <p:nvPr/>
                  </p:nvSpPr>
                  <p:spPr>
                    <a:xfrm>
                      <a:off x="7772760" y="297648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83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610440" y="3766680"/>
                    <a:ext cx="114408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4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23400" y="3821400"/>
                    <a:ext cx="125604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5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264080" y="5025600"/>
                    <a:ext cx="115380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6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412400" y="3753000"/>
                    <a:ext cx="10818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7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342760" y="5025600"/>
                    <a:ext cx="111420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8" name="Line 12"/>
                  <p:cNvSpPr/>
                  <p:nvPr/>
                </p:nvSpPr>
                <p:spPr>
                  <a:xfrm>
                    <a:off x="6715080" y="419076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2"/>
                  <p:cNvSpPr/>
                  <p:nvPr/>
                </p:nvSpPr>
                <p:spPr>
                  <a:xfrm flipH="1">
                    <a:off x="6536160" y="54133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2"/>
                  <p:cNvSpPr/>
                  <p:nvPr/>
                </p:nvSpPr>
                <p:spPr>
                  <a:xfrm flipH="1">
                    <a:off x="4640040" y="54133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91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65000" y="5025600"/>
                    <a:ext cx="106344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92" name="Line 13"/>
                <p:cNvSpPr/>
                <p:nvPr/>
              </p:nvSpPr>
              <p:spPr>
                <a:xfrm>
                  <a:off x="7926120" y="4563000"/>
                  <a:ext cx="0" cy="46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" name="TextBox 211"/>
            <p:cNvSpPr/>
            <p:nvPr/>
          </p:nvSpPr>
          <p:spPr>
            <a:xfrm>
              <a:off x="8148240" y="317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234000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Quality assurance of the semantic resourc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-32220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Provenance Everywhere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322200" indent="-32220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Valid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ChemSpider Validation and Standardization Platform (CVSP) for flagging chemical representation issu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22200" indent="-32220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Cur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High quality chemical names and synonyms.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Curation interfaces for terminologies (concept wiki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74400" indent="-3744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Report data quality issues to data provider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579F-49C9-44FE-97FF-F89A0B2D3E0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issu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Do not underestimate infrastruc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APIs are importa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Allows for tuning of sparql querie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Makes it easy for developer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Ontologies- Requirements vs. Recommendation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Modeling is hard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D8DE-EB9B-451E-99E8-6DD11B9210B8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Open PHACTS Information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openphacts.org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mu@openphacts.org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@Open_PHACT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ublication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446a"/>
                </a:solidFill>
                <a:latin typeface="Calibri"/>
              </a:rPr>
              <a:t>Overview paper: Williams, A.J., Harland, L., Groth, P., Pettifer, S., Chichester, C., Willighagen, E.L., Evelo, C.T., Blomberg, N., Ecker, G., Goble, C., Mons, B.: Open PHACTS: Semantic interoperability for drug discovery. Drug Discovery Today. 17, 1188–1198 (2012).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446a"/>
                </a:solidFill>
                <a:latin typeface="Calibri"/>
              </a:rPr>
              <a:t>Technical approach: Gray, A.J.G., Groth, P., Loizou, A., et al.: Applying linked data approaches to pharmacology: Architectural decisions and implementation. Semantic Web. (2012).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FB48-DC04-4CC9-B7FA-FFFF02CB41E8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284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Open PHACTS objectiv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7" name="Espace réservé du pied de page 6"/>
          <p:cNvSpPr/>
          <p:nvPr/>
        </p:nvSpPr>
        <p:spPr>
          <a:xfrm>
            <a:off x="3156120" y="5987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7521480" y="5987880"/>
            <a:ext cx="11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F5CC-E9B4-4632-8AF0-C73B5F4B40FE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2556000" y="826920"/>
            <a:ext cx="4149720" cy="2386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863800" cy="23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1" name="Picture 9" descr=""/>
          <p:cNvPicPr/>
          <p:nvPr/>
        </p:nvPicPr>
        <p:blipFill>
          <a:blip r:embed="rId3"/>
          <a:stretch/>
        </p:blipFill>
        <p:spPr>
          <a:xfrm>
            <a:off x="5219640" y="3429000"/>
            <a:ext cx="3443400" cy="2498760"/>
          </a:xfrm>
          <a:prstGeom prst="rect">
            <a:avLst/>
          </a:prstGeom>
          <a:ln w="0">
            <a:noFill/>
          </a:ln>
        </p:spPr>
      </p:pic>
      <p:grpSp>
        <p:nvGrpSpPr>
          <p:cNvPr id="202" name="Rounded Rectangle 10"/>
          <p:cNvGrpSpPr/>
          <p:nvPr/>
        </p:nvGrpSpPr>
        <p:grpSpPr>
          <a:xfrm>
            <a:off x="1663560" y="938160"/>
            <a:ext cx="1659240" cy="731880"/>
            <a:chOff x="1663560" y="938160"/>
            <a:chExt cx="1659240" cy="731880"/>
          </a:xfrm>
        </p:grpSpPr>
        <p:pic>
          <p:nvPicPr>
            <p:cNvPr id="203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1663560" y="938160"/>
              <a:ext cx="16592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792440" y="1009800"/>
              <a:ext cx="1457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12"/>
          <p:cNvGrpSpPr/>
          <p:nvPr/>
        </p:nvGrpSpPr>
        <p:grpSpPr>
          <a:xfrm>
            <a:off x="5194440" y="5187960"/>
            <a:ext cx="1657080" cy="731880"/>
            <a:chOff x="5194440" y="5187960"/>
            <a:chExt cx="1657080" cy="731880"/>
          </a:xfrm>
        </p:grpSpPr>
        <p:pic>
          <p:nvPicPr>
            <p:cNvPr id="206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5194440" y="5187960"/>
              <a:ext cx="16570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321160" y="5257800"/>
              <a:ext cx="145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Standa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13" descr=""/>
          <p:cNvPicPr/>
          <p:nvPr/>
        </p:nvPicPr>
        <p:blipFill>
          <a:blip r:embed="rId6"/>
          <a:stretch/>
        </p:blipFill>
        <p:spPr>
          <a:xfrm>
            <a:off x="1403280" y="3252960"/>
            <a:ext cx="2676600" cy="2479680"/>
          </a:xfrm>
          <a:prstGeom prst="rect">
            <a:avLst/>
          </a:prstGeom>
          <a:ln w="0">
            <a:noFill/>
          </a:ln>
        </p:spPr>
      </p:pic>
      <p:grpSp>
        <p:nvGrpSpPr>
          <p:cNvPr id="209" name="Rounded Rectangle 14"/>
          <p:cNvGrpSpPr/>
          <p:nvPr/>
        </p:nvGrpSpPr>
        <p:grpSpPr>
          <a:xfrm>
            <a:off x="1390680" y="3591000"/>
            <a:ext cx="1650960" cy="731880"/>
            <a:chOff x="1390680" y="3591000"/>
            <a:chExt cx="1650960" cy="731880"/>
          </a:xfrm>
        </p:grpSpPr>
        <p:pic>
          <p:nvPicPr>
            <p:cNvPr id="210" name="Rounded Rectangle 14" descr=""/>
            <p:cNvPicPr/>
            <p:nvPr/>
          </p:nvPicPr>
          <p:blipFill>
            <a:blip r:embed="rId7"/>
            <a:stretch/>
          </p:blipFill>
          <p:spPr>
            <a:xfrm>
              <a:off x="1390680" y="3591000"/>
              <a:ext cx="165096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514520" y="3662280"/>
              <a:ext cx="1457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Ap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Rounded Rectangle 15"/>
          <p:cNvGrpSpPr/>
          <p:nvPr/>
        </p:nvGrpSpPr>
        <p:grpSpPr>
          <a:xfrm>
            <a:off x="384120" y="5248440"/>
            <a:ext cx="1657440" cy="738000"/>
            <a:chOff x="384120" y="5248440"/>
            <a:chExt cx="1657440" cy="738000"/>
          </a:xfrm>
        </p:grpSpPr>
        <p:pic>
          <p:nvPicPr>
            <p:cNvPr id="213" name="Rounded Rectangle 15" descr=""/>
            <p:cNvPicPr/>
            <p:nvPr/>
          </p:nvPicPr>
          <p:blipFill>
            <a:blip r:embed="rId8"/>
            <a:stretch/>
          </p:blipFill>
          <p:spPr>
            <a:xfrm>
              <a:off x="384120" y="5248440"/>
              <a:ext cx="165744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2640" y="5322960"/>
              <a:ext cx="14572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B18E-F9DC-40F2-A64A-BAF6BED42BA0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7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897440" y="2776680"/>
            <a:ext cx="1143000" cy="32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"/>
          <p:cNvPicPr/>
          <p:nvPr/>
        </p:nvPicPr>
        <p:blipFill>
          <a:blip r:embed="rId2"/>
          <a:stretch/>
        </p:blipFill>
        <p:spPr>
          <a:xfrm>
            <a:off x="7777080" y="1768320"/>
            <a:ext cx="1252800" cy="36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2" descr=""/>
          <p:cNvPicPr/>
          <p:nvPr/>
        </p:nvPicPr>
        <p:blipFill>
          <a:blip r:embed="rId3"/>
          <a:srcRect l="0" t="0" r="8338" b="0"/>
          <a:stretch/>
        </p:blipFill>
        <p:spPr>
          <a:xfrm>
            <a:off x="3097080" y="1839960"/>
            <a:ext cx="1386000" cy="444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"/>
          <p:cNvPicPr/>
          <p:nvPr/>
        </p:nvPicPr>
        <p:blipFill>
          <a:blip r:embed="rId4"/>
          <a:stretch/>
        </p:blipFill>
        <p:spPr>
          <a:xfrm>
            <a:off x="360360" y="1878120"/>
            <a:ext cx="1584360" cy="466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" descr=""/>
          <p:cNvPicPr/>
          <p:nvPr/>
        </p:nvPicPr>
        <p:blipFill>
          <a:blip r:embed="rId5"/>
          <a:stretch/>
        </p:blipFill>
        <p:spPr>
          <a:xfrm>
            <a:off x="6410160" y="2776680"/>
            <a:ext cx="1511640" cy="444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"/>
          <p:cNvPicPr/>
          <p:nvPr/>
        </p:nvPicPr>
        <p:blipFill>
          <a:blip r:embed="rId6"/>
          <a:stretch/>
        </p:blipFill>
        <p:spPr>
          <a:xfrm>
            <a:off x="4826160" y="2200320"/>
            <a:ext cx="1711080" cy="50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"/>
          <p:cNvPicPr/>
          <p:nvPr/>
        </p:nvPicPr>
        <p:blipFill>
          <a:blip r:embed="rId7"/>
          <a:srcRect l="0" t="0" r="35018" b="0"/>
          <a:stretch/>
        </p:blipFill>
        <p:spPr>
          <a:xfrm>
            <a:off x="7837560" y="3208320"/>
            <a:ext cx="888840" cy="4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"/>
          <p:cNvPicPr/>
          <p:nvPr/>
        </p:nvPicPr>
        <p:blipFill>
          <a:blip r:embed="rId8"/>
          <a:srcRect l="0" t="0" r="13340" b="0"/>
          <a:stretch/>
        </p:blipFill>
        <p:spPr>
          <a:xfrm>
            <a:off x="6491160" y="3279600"/>
            <a:ext cx="1060560" cy="36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/>
          <p:cNvPicPr/>
          <p:nvPr/>
        </p:nvPicPr>
        <p:blipFill>
          <a:blip r:embed="rId9"/>
          <a:stretch/>
        </p:blipFill>
        <p:spPr>
          <a:xfrm>
            <a:off x="433440" y="2487600"/>
            <a:ext cx="2016000" cy="534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"/>
          <p:cNvPicPr/>
          <p:nvPr/>
        </p:nvPicPr>
        <p:blipFill>
          <a:blip r:embed="rId10"/>
          <a:stretch/>
        </p:blipFill>
        <p:spPr>
          <a:xfrm>
            <a:off x="433440" y="3137040"/>
            <a:ext cx="1466640" cy="431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"/>
          <p:cNvPicPr/>
          <p:nvPr/>
        </p:nvPicPr>
        <p:blipFill>
          <a:blip r:embed="rId11"/>
          <a:stretch/>
        </p:blipFill>
        <p:spPr>
          <a:xfrm>
            <a:off x="6337440" y="1839960"/>
            <a:ext cx="1187280" cy="349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"/>
          <p:cNvPicPr/>
          <p:nvPr/>
        </p:nvPicPr>
        <p:blipFill>
          <a:blip r:embed="rId12"/>
          <a:stretch/>
        </p:blipFill>
        <p:spPr>
          <a:xfrm>
            <a:off x="7634160" y="2200320"/>
            <a:ext cx="1227240" cy="36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3" descr=""/>
          <p:cNvPicPr/>
          <p:nvPr/>
        </p:nvPicPr>
        <p:blipFill>
          <a:blip r:embed="rId13"/>
          <a:stretch/>
        </p:blipFill>
        <p:spPr>
          <a:xfrm>
            <a:off x="4897440" y="3208320"/>
            <a:ext cx="1220760" cy="36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5" descr=""/>
          <p:cNvPicPr/>
          <p:nvPr/>
        </p:nvPicPr>
        <p:blipFill>
          <a:blip r:embed="rId14"/>
          <a:stretch/>
        </p:blipFill>
        <p:spPr>
          <a:xfrm>
            <a:off x="3097080" y="2703600"/>
            <a:ext cx="1576440" cy="463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"/>
          <p:cNvPicPr/>
          <p:nvPr/>
        </p:nvPicPr>
        <p:blipFill>
          <a:blip r:embed="rId15"/>
          <a:stretch/>
        </p:blipFill>
        <p:spPr>
          <a:xfrm>
            <a:off x="3292560" y="3279600"/>
            <a:ext cx="1079280" cy="319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8" descr=""/>
          <p:cNvPicPr/>
          <p:nvPr/>
        </p:nvPicPr>
        <p:blipFill>
          <a:blip r:embed="rId16"/>
          <a:stretch/>
        </p:blipFill>
        <p:spPr>
          <a:xfrm>
            <a:off x="4826160" y="1839960"/>
            <a:ext cx="1150920" cy="339840"/>
          </a:xfrm>
          <a:prstGeom prst="rect">
            <a:avLst/>
          </a:prstGeom>
          <a:ln w="0">
            <a:noFill/>
          </a:ln>
        </p:spPr>
      </p:pic>
      <p:pic>
        <p:nvPicPr>
          <p:cNvPr id="234" name="Grafik 26" descr="C:\Users\Anika Robl\AppData\Local\Microsoft\Windows\Temporary Internet Files\Content.Outlook\PFI2JZPG\INGLES_POSITIVO.jpg"/>
          <p:cNvPicPr/>
          <p:nvPr/>
        </p:nvPicPr>
        <p:blipFill>
          <a:blip r:embed="rId17"/>
          <a:stretch/>
        </p:blipFill>
        <p:spPr>
          <a:xfrm>
            <a:off x="6337440" y="2344680"/>
            <a:ext cx="834840" cy="298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7" descr=""/>
          <p:cNvPicPr/>
          <p:nvPr/>
        </p:nvPicPr>
        <p:blipFill>
          <a:blip r:embed="rId18"/>
          <a:stretch/>
        </p:blipFill>
        <p:spPr>
          <a:xfrm>
            <a:off x="1297080" y="1913040"/>
            <a:ext cx="1584360" cy="465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4" descr=""/>
          <p:cNvPicPr/>
          <p:nvPr/>
        </p:nvPicPr>
        <p:blipFill>
          <a:blip r:embed="rId19"/>
          <a:stretch/>
        </p:blipFill>
        <p:spPr>
          <a:xfrm>
            <a:off x="1368360" y="2560680"/>
            <a:ext cx="1470240" cy="431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20"/>
          <a:stretch/>
        </p:blipFill>
        <p:spPr>
          <a:xfrm>
            <a:off x="3168720" y="2344680"/>
            <a:ext cx="1128600" cy="333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" descr=""/>
          <p:cNvPicPr/>
          <p:nvPr/>
        </p:nvPicPr>
        <p:blipFill>
          <a:blip r:embed="rId21"/>
          <a:stretch/>
        </p:blipFill>
        <p:spPr>
          <a:xfrm>
            <a:off x="1441440" y="3137040"/>
            <a:ext cx="1471680" cy="431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22"/>
          <a:stretch/>
        </p:blipFill>
        <p:spPr>
          <a:xfrm>
            <a:off x="7464600" y="2674800"/>
            <a:ext cx="1709640" cy="505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NBIC"/>
          <p:cNvPicPr/>
          <p:nvPr/>
        </p:nvPicPr>
        <p:blipFill>
          <a:blip r:embed="rId23"/>
          <a:stretch/>
        </p:blipFill>
        <p:spPr>
          <a:xfrm>
            <a:off x="4968720" y="3960720"/>
            <a:ext cx="1086120" cy="457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SIB"/>
          <p:cNvPicPr/>
          <p:nvPr/>
        </p:nvPicPr>
        <p:blipFill>
          <a:blip r:embed="rId24"/>
          <a:stretch/>
        </p:blipFill>
        <p:spPr>
          <a:xfrm>
            <a:off x="7756560" y="3933720"/>
            <a:ext cx="1028520" cy="555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ConnDiscovery"/>
          <p:cNvPicPr/>
          <p:nvPr/>
        </p:nvPicPr>
        <p:blipFill>
          <a:blip r:embed="rId25"/>
          <a:stretch/>
        </p:blipFill>
        <p:spPr>
          <a:xfrm>
            <a:off x="3168720" y="4017960"/>
            <a:ext cx="1638360" cy="399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EBI"/>
          <p:cNvPicPr/>
          <p:nvPr/>
        </p:nvPicPr>
        <p:blipFill>
          <a:blip r:embed="rId26"/>
          <a:stretch/>
        </p:blipFill>
        <p:spPr>
          <a:xfrm>
            <a:off x="1467000" y="4041720"/>
            <a:ext cx="1414440" cy="447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janssen"/>
          <p:cNvPicPr/>
          <p:nvPr/>
        </p:nvPicPr>
        <p:blipFill>
          <a:blip r:embed="rId27"/>
          <a:stretch/>
        </p:blipFill>
        <p:spPr>
          <a:xfrm>
            <a:off x="289080" y="3946680"/>
            <a:ext cx="1064880" cy="614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5" descr="oplogo_std_200x80.png"/>
          <p:cNvPicPr/>
          <p:nvPr/>
        </p:nvPicPr>
        <p:blipFill>
          <a:blip r:embed="rId28"/>
          <a:srcRect l="0" t="0" r="0" b="14179"/>
          <a:stretch/>
        </p:blipFill>
        <p:spPr>
          <a:xfrm>
            <a:off x="6286680" y="3981600"/>
            <a:ext cx="1269720" cy="43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BD01-52E7-426C-9079-0A9078EAF092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Associate 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48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3" descr=""/>
          <p:cNvPicPr/>
          <p:nvPr/>
        </p:nvPicPr>
        <p:blipFill>
          <a:blip r:embed="rId1"/>
          <a:stretch/>
        </p:blipFill>
        <p:spPr>
          <a:xfrm>
            <a:off x="7305840" y="2232000"/>
            <a:ext cx="1193760" cy="866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1573200" cy="490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3"/>
          <a:stretch/>
        </p:blipFill>
        <p:spPr>
          <a:xfrm>
            <a:off x="5791320" y="3036960"/>
            <a:ext cx="12938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4"/>
          <a:stretch/>
        </p:blipFill>
        <p:spPr>
          <a:xfrm>
            <a:off x="7162920" y="3200400"/>
            <a:ext cx="1647720" cy="693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"/>
          <p:cNvPicPr/>
          <p:nvPr/>
        </p:nvPicPr>
        <p:blipFill>
          <a:blip r:embed="rId5"/>
          <a:stretch/>
        </p:blipFill>
        <p:spPr>
          <a:xfrm>
            <a:off x="380880" y="2057400"/>
            <a:ext cx="1629000" cy="458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"/>
          <p:cNvPicPr/>
          <p:nvPr/>
        </p:nvPicPr>
        <p:blipFill>
          <a:blip r:embed="rId6"/>
          <a:stretch/>
        </p:blipFill>
        <p:spPr>
          <a:xfrm>
            <a:off x="7467480" y="396252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"/>
          <p:cNvPicPr/>
          <p:nvPr/>
        </p:nvPicPr>
        <p:blipFill>
          <a:blip r:embed="rId7"/>
          <a:stretch/>
        </p:blipFill>
        <p:spPr>
          <a:xfrm>
            <a:off x="3564000" y="4149720"/>
            <a:ext cx="1101600" cy="693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"/>
          <p:cNvPicPr/>
          <p:nvPr/>
        </p:nvPicPr>
        <p:blipFill>
          <a:blip r:embed="rId8"/>
          <a:stretch/>
        </p:blipFill>
        <p:spPr>
          <a:xfrm>
            <a:off x="457200" y="4343400"/>
            <a:ext cx="1852560" cy="620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"/>
          <p:cNvPicPr/>
          <p:nvPr/>
        </p:nvPicPr>
        <p:blipFill>
          <a:blip r:embed="rId9"/>
          <a:stretch/>
        </p:blipFill>
        <p:spPr>
          <a:xfrm>
            <a:off x="2700360" y="3933720"/>
            <a:ext cx="639720" cy="12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"/>
          <p:cNvPicPr/>
          <p:nvPr/>
        </p:nvPicPr>
        <p:blipFill>
          <a:blip r:embed="rId10"/>
          <a:stretch/>
        </p:blipFill>
        <p:spPr>
          <a:xfrm>
            <a:off x="3419640" y="5445000"/>
            <a:ext cx="2046240" cy="64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7" descr=""/>
          <p:cNvPicPr/>
          <p:nvPr/>
        </p:nvPicPr>
        <p:blipFill>
          <a:blip r:embed="rId11"/>
          <a:stretch/>
        </p:blipFill>
        <p:spPr>
          <a:xfrm>
            <a:off x="228600" y="3657600"/>
            <a:ext cx="2119320" cy="693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"/>
          <p:cNvPicPr/>
          <p:nvPr/>
        </p:nvPicPr>
        <p:blipFill>
          <a:blip r:embed="rId12"/>
          <a:stretch/>
        </p:blipFill>
        <p:spPr>
          <a:xfrm>
            <a:off x="2700360" y="2565360"/>
            <a:ext cx="1560600" cy="500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9" descr=""/>
          <p:cNvPicPr/>
          <p:nvPr/>
        </p:nvPicPr>
        <p:blipFill>
          <a:blip r:embed="rId13"/>
          <a:stretch/>
        </p:blipFill>
        <p:spPr>
          <a:xfrm>
            <a:off x="457200" y="1371600"/>
            <a:ext cx="2065320" cy="444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0" descr=""/>
          <p:cNvPicPr/>
          <p:nvPr/>
        </p:nvPicPr>
        <p:blipFill>
          <a:blip r:embed="rId14"/>
          <a:stretch/>
        </p:blipFill>
        <p:spPr>
          <a:xfrm>
            <a:off x="2195640" y="5300640"/>
            <a:ext cx="820440" cy="1050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"/>
          <p:cNvPicPr/>
          <p:nvPr/>
        </p:nvPicPr>
        <p:blipFill>
          <a:blip r:embed="rId15"/>
          <a:stretch/>
        </p:blipFill>
        <p:spPr>
          <a:xfrm>
            <a:off x="6934320" y="1371600"/>
            <a:ext cx="1850760" cy="693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"/>
          <p:cNvPicPr/>
          <p:nvPr/>
        </p:nvPicPr>
        <p:blipFill>
          <a:blip r:embed="rId16"/>
          <a:stretch/>
        </p:blipFill>
        <p:spPr>
          <a:xfrm>
            <a:off x="4724280" y="4648320"/>
            <a:ext cx="684360" cy="693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3" descr=""/>
          <p:cNvPicPr/>
          <p:nvPr/>
        </p:nvPicPr>
        <p:blipFill>
          <a:blip r:embed="rId17"/>
          <a:stretch/>
        </p:blipFill>
        <p:spPr>
          <a:xfrm>
            <a:off x="6300720" y="5373720"/>
            <a:ext cx="2306880" cy="814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"/>
          <p:cNvPicPr/>
          <p:nvPr/>
        </p:nvPicPr>
        <p:blipFill>
          <a:blip r:embed="rId18"/>
          <a:stretch/>
        </p:blipFill>
        <p:spPr>
          <a:xfrm>
            <a:off x="2987640" y="1628640"/>
            <a:ext cx="1986120" cy="578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5" descr="\\rsc\userdata\TGH\Home\KiddR\MyDocuments\OPS Publicity\Certara.png"/>
          <p:cNvPicPr/>
          <p:nvPr/>
        </p:nvPicPr>
        <p:blipFill>
          <a:blip r:embed="rId19"/>
          <a:stretch/>
        </p:blipFill>
        <p:spPr>
          <a:xfrm>
            <a:off x="5334120" y="3657600"/>
            <a:ext cx="1555560" cy="449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6" descr="\\rsc\userdata\TGH\Home\KiddR\MyDocuments\OPS Publicity\EagleGenomics.png"/>
          <p:cNvPicPr/>
          <p:nvPr/>
        </p:nvPicPr>
        <p:blipFill>
          <a:blip r:embed="rId20"/>
          <a:stretch/>
        </p:blipFill>
        <p:spPr>
          <a:xfrm>
            <a:off x="5715000" y="1295280"/>
            <a:ext cx="901800" cy="987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\\rsc\userdata\TGH\Home\KiddR\MyDocuments\OPS Publicity\Erasmus.png"/>
          <p:cNvPicPr/>
          <p:nvPr/>
        </p:nvPicPr>
        <p:blipFill>
          <a:blip r:embed="rId21"/>
          <a:stretch/>
        </p:blipFill>
        <p:spPr>
          <a:xfrm>
            <a:off x="457200" y="5562720"/>
            <a:ext cx="1193760" cy="449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\\rsc\userdata\TGH\Home\KiddR\MyDocuments\OPS Publicity\MGH.png"/>
          <p:cNvPicPr/>
          <p:nvPr/>
        </p:nvPicPr>
        <p:blipFill>
          <a:blip r:embed="rId22"/>
          <a:stretch/>
        </p:blipFill>
        <p:spPr>
          <a:xfrm>
            <a:off x="4952880" y="3119400"/>
            <a:ext cx="513000" cy="601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3"/>
          <a:stretch/>
        </p:blipFill>
        <p:spPr>
          <a:xfrm>
            <a:off x="5105520" y="2438280"/>
            <a:ext cx="1388880" cy="519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\\rsc\userdata\TGH\Home\KiddR\MyDocuments\OPS Publicity\hyve.jpg"/>
          <p:cNvPicPr/>
          <p:nvPr/>
        </p:nvPicPr>
        <p:blipFill>
          <a:blip r:embed="rId24"/>
          <a:stretch/>
        </p:blipFill>
        <p:spPr>
          <a:xfrm>
            <a:off x="2556000" y="3462480"/>
            <a:ext cx="1616040" cy="344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8" descr=""/>
          <p:cNvPicPr/>
          <p:nvPr/>
        </p:nvPicPr>
        <p:blipFill>
          <a:blip r:embed="rId25"/>
          <a:stretch/>
        </p:blipFill>
        <p:spPr>
          <a:xfrm>
            <a:off x="457200" y="2743200"/>
            <a:ext cx="1173240" cy="86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26"/>
          <a:stretch/>
        </p:blipFill>
        <p:spPr>
          <a:xfrm>
            <a:off x="7010280" y="4800600"/>
            <a:ext cx="1893960" cy="6937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0"/>
          <p:cNvSpPr/>
          <p:nvPr/>
        </p:nvSpPr>
        <p:spPr>
          <a:xfrm>
            <a:off x="4788000" y="5013360"/>
            <a:ext cx="98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om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Espace réservé du numéro de diapositive 15"/>
          <p:cNvSpPr/>
          <p:nvPr/>
        </p:nvSpPr>
        <p:spPr>
          <a:xfrm>
            <a:off x="7489800" y="578016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6DCB-5879-4A43-9EB1-40D15188954C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pied de page 16"/>
          <p:cNvSpPr/>
          <p:nvPr/>
        </p:nvSpPr>
        <p:spPr>
          <a:xfrm>
            <a:off x="3124080" y="57801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6"/>
          <p:cNvSpPr/>
          <p:nvPr/>
        </p:nvSpPr>
        <p:spPr>
          <a:xfrm>
            <a:off x="108000" y="3068640"/>
            <a:ext cx="148104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7"/>
          <p:cNvSpPr/>
          <p:nvPr/>
        </p:nvSpPr>
        <p:spPr>
          <a:xfrm>
            <a:off x="1762200" y="3027240"/>
            <a:ext cx="14810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ug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8"/>
          <p:cNvSpPr/>
          <p:nvPr/>
        </p:nvSpPr>
        <p:spPr>
          <a:xfrm>
            <a:off x="3492360" y="3068640"/>
            <a:ext cx="147960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9"/>
          <p:cNvSpPr/>
          <p:nvPr/>
        </p:nvSpPr>
        <p:spPr>
          <a:xfrm>
            <a:off x="5194440" y="3046320"/>
            <a:ext cx="17222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kipath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0"/>
          <p:cNvSpPr/>
          <p:nvPr/>
        </p:nvSpPr>
        <p:spPr>
          <a:xfrm>
            <a:off x="2592360" y="3914640"/>
            <a:ext cx="14810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P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11"/>
          <p:cNvSpPr/>
          <p:nvPr/>
        </p:nvSpPr>
        <p:spPr>
          <a:xfrm>
            <a:off x="3608280" y="4762440"/>
            <a:ext cx="162900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Sp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12"/>
          <p:cNvSpPr/>
          <p:nvPr/>
        </p:nvSpPr>
        <p:spPr>
          <a:xfrm>
            <a:off x="4462560" y="3914640"/>
            <a:ext cx="16286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1611360" y="4762440"/>
            <a:ext cx="162864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cept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ounded Rectangle 14"/>
          <p:cNvSpPr/>
          <p:nvPr/>
        </p:nvSpPr>
        <p:spPr>
          <a:xfrm>
            <a:off x="409680" y="3914640"/>
            <a:ext cx="16286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632560" y="4772160"/>
            <a:ext cx="162864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alT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6480000" y="3924360"/>
            <a:ext cx="162900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VK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18"/>
          <p:cNvSpPr/>
          <p:nvPr/>
        </p:nvSpPr>
        <p:spPr>
          <a:xfrm>
            <a:off x="7129440" y="3059280"/>
            <a:ext cx="162720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ounded Rectangle 19"/>
          <p:cNvSpPr/>
          <p:nvPr/>
        </p:nvSpPr>
        <p:spPr>
          <a:xfrm>
            <a:off x="7480440" y="4772160"/>
            <a:ext cx="162864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50"/>
          <p:cNvGraphicFramePr/>
          <p:nvPr/>
        </p:nvGraphicFramePr>
        <p:xfrm>
          <a:off x="4859280" y="1484280"/>
          <a:ext cx="51588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484280"/>
                    <a:ext cx="5158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8"/>
          <p:cNvGraphicFramePr/>
          <p:nvPr/>
        </p:nvGraphicFramePr>
        <p:xfrm>
          <a:off x="5219640" y="2349360"/>
          <a:ext cx="507960" cy="5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349360"/>
                    <a:ext cx="507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Oval Callout 22"/>
          <p:cNvGrpSpPr/>
          <p:nvPr/>
        </p:nvGrpSpPr>
        <p:grpSpPr>
          <a:xfrm>
            <a:off x="5730840" y="1163520"/>
            <a:ext cx="3468600" cy="1841760"/>
            <a:chOff x="5730840" y="1163520"/>
            <a:chExt cx="3468600" cy="1841760"/>
          </a:xfrm>
        </p:grpSpPr>
        <p:pic>
          <p:nvPicPr>
            <p:cNvPr id="296" name="Oval Callout 22" descr=""/>
            <p:cNvPicPr/>
            <p:nvPr/>
          </p:nvPicPr>
          <p:blipFill>
            <a:blip r:embed="rId5"/>
            <a:stretch/>
          </p:blipFill>
          <p:spPr>
            <a:xfrm>
              <a:off x="5730840" y="1163520"/>
              <a:ext cx="3468600" cy="18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469200" y="1449360"/>
              <a:ext cx="221616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“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Find me compounds that inhibit targets in  NFkB pathway assayed in only functional assays with a potency &lt;1 </a:t>
              </a:r>
              <a:r>
                <a:rPr b="0" lang="el-GR" sz="1400" spc="-1" strike="noStrike">
                  <a:solidFill>
                    <a:srgbClr val="10253f"/>
                  </a:solidFill>
                  <a:latin typeface="Comic Sans MS"/>
                </a:rPr>
                <a:t>μ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M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Oval Callout 23"/>
          <p:cNvGrpSpPr/>
          <p:nvPr/>
        </p:nvGrpSpPr>
        <p:grpSpPr>
          <a:xfrm>
            <a:off x="3578400" y="444600"/>
            <a:ext cx="2700000" cy="1658880"/>
            <a:chOff x="3578400" y="444600"/>
            <a:chExt cx="2700000" cy="1658880"/>
          </a:xfrm>
        </p:grpSpPr>
        <p:pic>
          <p:nvPicPr>
            <p:cNvPr id="299" name="Oval Callout 23" descr=""/>
            <p:cNvPicPr/>
            <p:nvPr/>
          </p:nvPicPr>
          <p:blipFill>
            <a:blip r:embed="rId6"/>
            <a:stretch/>
          </p:blipFill>
          <p:spPr>
            <a:xfrm>
              <a:off x="3578400" y="444600"/>
              <a:ext cx="270000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014720" y="698400"/>
              <a:ext cx="18288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“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Let me compare MW, logP and PSA for known  oxidoreductase inhibitor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Oval Callout 24"/>
          <p:cNvGrpSpPr/>
          <p:nvPr/>
        </p:nvGrpSpPr>
        <p:grpSpPr>
          <a:xfrm>
            <a:off x="139680" y="517680"/>
            <a:ext cx="3048120" cy="1566720"/>
            <a:chOff x="139680" y="517680"/>
            <a:chExt cx="3048120" cy="1566720"/>
          </a:xfrm>
        </p:grpSpPr>
        <p:pic>
          <p:nvPicPr>
            <p:cNvPr id="302" name="Oval Callout 24" descr=""/>
            <p:cNvPicPr/>
            <p:nvPr/>
          </p:nvPicPr>
          <p:blipFill>
            <a:blip r:embed="rId7"/>
            <a:stretch/>
          </p:blipFill>
          <p:spPr>
            <a:xfrm>
              <a:off x="139680" y="517680"/>
              <a:ext cx="304812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27120" y="728640"/>
              <a:ext cx="20746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“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What is the selectivity profile of known p38 inhibitors?”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4" name="Object 4"/>
          <p:cNvGraphicFramePr/>
          <p:nvPr/>
        </p:nvGraphicFramePr>
        <p:xfrm>
          <a:off x="3132000" y="1844640"/>
          <a:ext cx="50796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32000" y="1844640"/>
                    <a:ext cx="507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5"/>
          <p:cNvGraphicFramePr/>
          <p:nvPr/>
        </p:nvGraphicFramePr>
        <p:xfrm>
          <a:off x="539640" y="1989000"/>
          <a:ext cx="507960" cy="501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7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1989000"/>
                    <a:ext cx="507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8EC6-2AE4-4F83-8554-07747C9CF57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Screen Shot 2012-11-14 at 2.27.06 PM.png"/>
          <p:cNvPicPr/>
          <p:nvPr/>
        </p:nvPicPr>
        <p:blipFill>
          <a:blip r:embed="rId1"/>
          <a:stretch/>
        </p:blipFill>
        <p:spPr>
          <a:xfrm>
            <a:off x="-7920" y="480960"/>
            <a:ext cx="9144000" cy="53215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6"/>
          <p:cNvSpPr/>
          <p:nvPr/>
        </p:nvSpPr>
        <p:spPr>
          <a:xfrm>
            <a:off x="194760" y="115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PHACTS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a54"/>
                </a:solidFill>
                <a:latin typeface="Calibri"/>
              </a:rPr>
              <a:t>PharmaTrek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313" name="Picture 5" descr="Screen Shot 2012-11-14 at 3.09.55 PM.png"/>
          <p:cNvPicPr/>
          <p:nvPr/>
        </p:nvPicPr>
        <p:blipFill>
          <a:blip r:embed="rId1"/>
          <a:stretch/>
        </p:blipFill>
        <p:spPr>
          <a:xfrm>
            <a:off x="539640" y="826920"/>
            <a:ext cx="79520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F85F-F569-4A90-97BE-2A795CA107F0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920880" y="528480"/>
            <a:ext cx="8029440" cy="4845240"/>
          </a:xfrm>
          <a:prstGeom prst="rect">
            <a:avLst/>
          </a:prstGeom>
          <a:ln w="0">
            <a:noFill/>
          </a:ln>
        </p:spPr>
      </p:pic>
      <p:pic>
        <p:nvPicPr>
          <p:cNvPr id="317" name="Bild 2" descr="ScreenShot_CBN_Grid.tiff"/>
          <p:cNvPicPr/>
          <p:nvPr/>
        </p:nvPicPr>
        <p:blipFill>
          <a:blip r:embed="rId2"/>
          <a:stretch/>
        </p:blipFill>
        <p:spPr>
          <a:xfrm>
            <a:off x="2668680" y="1154160"/>
            <a:ext cx="4495680" cy="32115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8"/>
          <p:cNvSpPr/>
          <p:nvPr/>
        </p:nvSpPr>
        <p:spPr>
          <a:xfrm>
            <a:off x="192960" y="260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BioNavig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Sajjad Hussain</cp:lastModifiedBy>
  <dcterms:modified xsi:type="dcterms:W3CDTF">2013-01-27T18:34:18Z</dcterms:modified>
  <cp:revision>196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